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F0EF-0981-42B1-8BB7-D05DE3F0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49C2-8D70-4120-A4FA-304E3330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73C-978D-48D6-820D-3E53C041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D3EA-8BB2-4FE5-ACA2-FDAFC291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C731-222A-43CB-AC7B-5553359E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C972-AF2C-42C0-8DC7-6566A228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3D63-C851-40C5-BBE5-6DDBD948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DDDD-60CF-4EF9-BF8C-018929BC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1BA7-E1B2-47AE-B422-CE4DE759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9CEF-1B9F-43F5-913A-50E5E548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8A3B-8837-4529-920B-C718E20B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96BD-3D3C-4BEB-BB00-7AC01674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F4C9-79BD-49AF-A372-CC656694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BB55-DC79-4392-8E58-F1BE4831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AF83-9FA8-4803-BC84-EEB7788A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9EE6-2BE0-4EB2-8BE7-941DE232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61C8-CEE6-4E25-8BD7-47B7F99D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C40-C9E3-4EE9-BA00-941A147C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7B92-041B-479A-85D4-AD624412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9271-F374-4524-A0CA-3699F49B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F4F9-71E8-4719-9032-F1BA8182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7617-97A7-45B5-BDB2-06EC81E1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8C6C-870D-45EB-9B55-3AC7A582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0D13-37EE-444C-B6E9-282F8B86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3973-7B15-4BF1-BE0B-3E3BB3AD95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B64C-B4F0-4775-9D76-16AC6B2CB6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er Kat Mania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ey Wink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68C6-F22B-438F-A9DF-72E2B3D850D6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rsday, July 30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udience will walk away knowing where Meer Kats live and the danger in a Meer Kats life. They will also know how long they live and the weather in their loca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ree act structu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very familiar for fi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bitat, diet, and preda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tra interesting f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movie could be published on a school site or certain websites for school purposes too help students on reports or for research or intere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movie will stand out because not a lot of people know about Meer Kats and it’s not an animal that you usually think of when you think of anima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9:04:28Z</dcterms:created>
  <dc:creator/>
  <dc:description/>
  <dc:language>en-US</dc:language>
  <cp:lastModifiedBy>City School</cp:lastModifiedBy>
  <dcterms:modified xsi:type="dcterms:W3CDTF">2013-02-20T19:16:39Z</dcterms:modified>
  <cp:revision>45</cp:revision>
  <dc:subject/>
  <dc:title>The Pitch-Then-Plan Business Planning Template</dc:title>
</cp:coreProperties>
</file>